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5258E-F767-4878-AC47-AF0C8E4D7F2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6F60-B16B-4F44-9BAD-B94D1FDEB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E3F2-D5DA-407A-87B5-DD6206004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178C-E0A8-473D-A824-2928A007A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5033-2010-48EB-947D-91E65EA0E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86C6-364B-45A3-9E2D-00F8B5F2F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553C-9151-4549-B623-28DAF220B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508B-D419-4021-8D35-4FE9A962F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F0C3-10D6-4C2D-BDE8-4796278D5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3634-D5D9-4D20-9251-EEA97EC0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7A36-61E0-4F22-83B9-192025D6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B981-90FE-4E8E-B50B-A66ADBB3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CBC5-C77F-4013-8AC8-281F1D4C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6AA0B-BE0B-45EE-8CE8-90890F2D1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line and offline data hand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large detectors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designed for non-accelerator experi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6680" y="2971800"/>
            <a:ext cx="353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Yoshinari Hayato (ICR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20440" y="3860640"/>
            <a:ext cx="4450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fficulty ( Water Cherenkov detector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 transfer via Eth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igh 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 format for the onlin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 designing the data handl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e of the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139040" y="5516640"/>
            <a:ext cx="7601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so, this computer will allow y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test the system in the “standalone mode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d you can 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run the remaining part of the dete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196080" y="1525680"/>
            <a:ext cx="556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adout system can be consists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hardware modules onl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It will be robus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one sen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274920" y="4292640"/>
            <a:ext cx="57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d thus, it is possible to perfor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ff0066"/>
                </a:solidFill>
                <a:latin typeface="Comic Sans MS"/>
              </a:rPr>
              <a:t>detailed consistency check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of the data </a:t>
            </a:r>
            <a:r>
              <a:rPr b="0" lang="en-US" sz="2000" spc="-1" strike="noStrike">
                <a:solidFill>
                  <a:srgbClr val="ff0066"/>
                </a:solidFill>
                <a:latin typeface="Comic Sans MS"/>
              </a:rPr>
              <a:t>her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36440" y="2924280"/>
            <a:ext cx="2735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68360" y="2421000"/>
            <a:ext cx="2087640" cy="35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74560" y="1916280"/>
            <a:ext cx="1871640" cy="3603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rot="5400000">
            <a:off x="1330560" y="656280"/>
            <a:ext cx="358560" cy="1871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03360" y="141444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1980720" y="838080"/>
            <a:ext cx="358920" cy="287280"/>
            <a:chOff x="1980720" y="838080"/>
            <a:chExt cx="358920" cy="287280"/>
          </a:xfrm>
        </p:grpSpPr>
        <p:sp>
          <p:nvSpPr>
            <p:cNvPr id="356" name=""/>
            <p:cNvSpPr/>
            <p:nvPr/>
          </p:nvSpPr>
          <p:spPr>
            <a:xfrm rot="5400000">
              <a:off x="2052000" y="90936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5400000">
              <a:off x="2090160" y="72828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1547280" y="838080"/>
            <a:ext cx="358920" cy="287280"/>
            <a:chOff x="1547280" y="838080"/>
            <a:chExt cx="358920" cy="287280"/>
          </a:xfrm>
        </p:grpSpPr>
        <p:sp>
          <p:nvSpPr>
            <p:cNvPr id="359" name=""/>
            <p:cNvSpPr/>
            <p:nvPr/>
          </p:nvSpPr>
          <p:spPr>
            <a:xfrm rot="5400000">
              <a:off x="1618560" y="90936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5400000">
              <a:off x="1656720" y="72828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612360" y="838080"/>
            <a:ext cx="358920" cy="287280"/>
            <a:chOff x="612360" y="838080"/>
            <a:chExt cx="358920" cy="287280"/>
          </a:xfrm>
        </p:grpSpPr>
        <p:sp>
          <p:nvSpPr>
            <p:cNvPr id="362" name=""/>
            <p:cNvSpPr/>
            <p:nvPr/>
          </p:nvSpPr>
          <p:spPr>
            <a:xfrm rot="5400000">
              <a:off x="683640" y="90936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5400000">
              <a:off x="721800" y="72828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"/>
          <p:cNvSpPr/>
          <p:nvPr/>
        </p:nvSpPr>
        <p:spPr>
          <a:xfrm flipH="1">
            <a:off x="1044360" y="98100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792000" y="1125360"/>
            <a:ext cx="1368720" cy="289080"/>
            <a:chOff x="792000" y="1125360"/>
            <a:chExt cx="1368720" cy="289080"/>
          </a:xfrm>
        </p:grpSpPr>
        <p:sp>
          <p:nvSpPr>
            <p:cNvPr id="366" name=""/>
            <p:cNvSpPr/>
            <p:nvPr/>
          </p:nvSpPr>
          <p:spPr>
            <a:xfrm>
              <a:off x="2160720" y="112536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727280" y="112536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92000" y="112536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"/>
          <p:cNvSpPr/>
          <p:nvPr/>
        </p:nvSpPr>
        <p:spPr>
          <a:xfrm flipH="1">
            <a:off x="1511280" y="1773360"/>
            <a:ext cx="14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17760" y="2422440"/>
            <a:ext cx="178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rter + Mer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82520" y="2924280"/>
            <a:ext cx="26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ligent trigge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96520" y="191772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ou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511280" y="2278080"/>
            <a:ext cx="14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1511280" y="2782800"/>
            <a:ext cx="14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1511280" y="3352680"/>
            <a:ext cx="14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44360" y="3502080"/>
            <a:ext cx="2735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08000" y="35020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lin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2040" y="109440"/>
            <a:ext cx="658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In designing the data handl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819880" y="765000"/>
            <a:ext cx="339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2</a:t>
            </a:r>
            <a:r>
              <a:rPr b="0" lang="en-US" sz="2400" spc="-1" strike="noStrike" baseline="30000">
                <a:solidFill>
                  <a:srgbClr val="0000cc"/>
                </a:solidFill>
                <a:latin typeface="Comic Sans MS"/>
              </a:rPr>
              <a:t>nd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 check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eadou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419640" y="3573360"/>
            <a:ext cx="56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cause each readout system does not hand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not so many PMT hit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164760" y="5006880"/>
            <a:ext cx="58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Too much data makes you trouble in finding errors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22720" y="2565360"/>
            <a:ext cx="574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t I (personally) think it is bet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have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a computer in th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t least </a:t>
            </a:r>
            <a:r>
              <a:rPr b="0" lang="en-US" sz="2000" spc="-1" strike="noStrike">
                <a:solidFill>
                  <a:srgbClr val="ff6600"/>
                </a:solidFill>
                <a:latin typeface="Comic Sans MS"/>
              </a:rPr>
              <a:t>for the error detect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2988000" y="3008160"/>
            <a:ext cx="5987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applying the 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intelligent-trigg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 is very important to 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kee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ff0066"/>
                </a:solidFill>
                <a:latin typeface="Comic Sans MS"/>
              </a:rPr>
              <a:t>the revisions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f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 the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calibration 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software used to select (define) an even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950560" y="4311720"/>
            <a:ext cx="579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ame kind of information should be k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he 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offline analysi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s alw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06160" y="6345360"/>
            <a:ext cx="853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For example, missing block need to be “corrected” in the calorime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68360" y="2421000"/>
            <a:ext cx="2087640" cy="358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74560" y="1916280"/>
            <a:ext cx="1871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rot="5400000">
            <a:off x="1330560" y="656280"/>
            <a:ext cx="358560" cy="1871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03360" y="141444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1980720" y="838080"/>
            <a:ext cx="358920" cy="287280"/>
            <a:chOff x="1980720" y="838080"/>
            <a:chExt cx="358920" cy="287280"/>
          </a:xfrm>
        </p:grpSpPr>
        <p:sp>
          <p:nvSpPr>
            <p:cNvPr id="391" name=""/>
            <p:cNvSpPr/>
            <p:nvPr/>
          </p:nvSpPr>
          <p:spPr>
            <a:xfrm rot="5400000">
              <a:off x="2052000" y="90936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5400000">
              <a:off x="2090160" y="72828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1547280" y="838080"/>
            <a:ext cx="358920" cy="287280"/>
            <a:chOff x="1547280" y="838080"/>
            <a:chExt cx="358920" cy="287280"/>
          </a:xfrm>
        </p:grpSpPr>
        <p:sp>
          <p:nvSpPr>
            <p:cNvPr id="394" name=""/>
            <p:cNvSpPr/>
            <p:nvPr/>
          </p:nvSpPr>
          <p:spPr>
            <a:xfrm rot="5400000">
              <a:off x="1618560" y="90936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5400000">
              <a:off x="1656720" y="72828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612360" y="838080"/>
            <a:ext cx="358920" cy="287280"/>
            <a:chOff x="612360" y="838080"/>
            <a:chExt cx="358920" cy="287280"/>
          </a:xfrm>
        </p:grpSpPr>
        <p:sp>
          <p:nvSpPr>
            <p:cNvPr id="397" name=""/>
            <p:cNvSpPr/>
            <p:nvPr/>
          </p:nvSpPr>
          <p:spPr>
            <a:xfrm rot="5400000">
              <a:off x="683640" y="90936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5400000">
              <a:off x="721800" y="72828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"/>
          <p:cNvSpPr/>
          <p:nvPr/>
        </p:nvSpPr>
        <p:spPr>
          <a:xfrm flipH="1">
            <a:off x="1044360" y="98100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792000" y="1125360"/>
            <a:ext cx="1368720" cy="289080"/>
            <a:chOff x="792000" y="1125360"/>
            <a:chExt cx="1368720" cy="289080"/>
          </a:xfrm>
        </p:grpSpPr>
        <p:sp>
          <p:nvSpPr>
            <p:cNvPr id="401" name=""/>
            <p:cNvSpPr/>
            <p:nvPr/>
          </p:nvSpPr>
          <p:spPr>
            <a:xfrm>
              <a:off x="2160720" y="112536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727280" y="112536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92000" y="112536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"/>
          <p:cNvSpPr/>
          <p:nvPr/>
        </p:nvSpPr>
        <p:spPr>
          <a:xfrm flipH="1">
            <a:off x="1511280" y="1773360"/>
            <a:ext cx="14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17760" y="2422440"/>
            <a:ext cx="178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rter + Mer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96520" y="191772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ou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1511280" y="2278080"/>
            <a:ext cx="14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1511280" y="2782800"/>
            <a:ext cx="14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1511280" y="3352680"/>
            <a:ext cx="14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885760" y="765000"/>
            <a:ext cx="4728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Next check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Hit sorter + Mer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Intelligent trigge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Offline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495960" y="2295360"/>
            <a:ext cx="489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re, it is possible to u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ll the hits from entire detecto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6440" y="2924280"/>
            <a:ext cx="273528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82520" y="2924280"/>
            <a:ext cx="26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ligent trigge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2040" y="109440"/>
            <a:ext cx="658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In designing the data handl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44360" y="3502080"/>
            <a:ext cx="2735280" cy="431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08000" y="35002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lin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984400" y="5018040"/>
            <a:ext cx="604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so, the relation between 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the raw data ( raw hits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the reconstructed result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hould be kep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-46440" y="5680080"/>
            <a:ext cx="925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Slow monitor information (low voltage/high voltage, temperature etc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are also very import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374760" y="836640"/>
            <a:ext cx="73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As a (raw) data storage syste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will be a problem in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distributing dat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63600" y="2822400"/>
            <a:ext cx="7873920" cy="21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f course,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database is very usefu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 various c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Keep tracks of calibration const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he accelerator based long baseline experiment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 will be very convenient to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keep the beam tim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and the beam properti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n the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73600" y="5877000"/>
            <a:ext cx="678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st of the time,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simple(?) data base system is enough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OT, Berkeley DB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2560" y="101520"/>
            <a:ext cx="350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Use of the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381640" y="404640"/>
            <a:ext cx="21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Personal opinion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910440" y="1628640"/>
            <a:ext cx="50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 replication is possible but not so si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970200" y="1916280"/>
            <a:ext cx="71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pporting various data access method (direct file I/O &amp; DB I/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ight cause probl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888480" y="5013360"/>
            <a:ext cx="776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But it is not necessary to use famous Relational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(Oracle, PostgreSQL, mySQL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67680" y="92160"/>
            <a:ext cx="178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93480" y="717480"/>
            <a:ext cx="735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n from the water Cherenkov type detecto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tal amount of data could be </a:t>
            </a:r>
            <a:r>
              <a:rPr b="0" lang="en-US" sz="2400" spc="-1" strike="noStrike">
                <a:solidFill>
                  <a:srgbClr val="d60093"/>
                </a:solidFill>
                <a:latin typeface="Comic Sans MS"/>
              </a:rPr>
              <a:t>a few GB/se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990720" y="1484280"/>
            <a:ext cx="7538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It is not impossible to handl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his data with recent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t the system should be designed carefu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01480" y="2205000"/>
            <a:ext cx="75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loss of the data is really critical in the ana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88080" y="5516640"/>
            <a:ext cx="76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ways keep in mi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how to detect and investigate trou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943200" y="2637000"/>
            <a:ext cx="769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reduce the down tim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oncept of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HA syste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ill be use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210320" y="4006800"/>
            <a:ext cx="7530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 is necessary to recognize the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characteristic of the data flow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he online/DAQ system 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is diffe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from the usual network traff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96720" y="3548160"/>
            <a:ext cx="71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design of the network system is import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041120" y="4983120"/>
            <a:ext cx="489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Size of the packet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might be a probl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21320" y="101520"/>
            <a:ext cx="22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1720" y="1101600"/>
            <a:ext cx="850752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Requirement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for the online/DAQ system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(slightly) different</a:t>
            </a:r>
            <a:r>
              <a:rPr b="0" lang="zh-CN" sz="2000" spc="-1" strike="noStrike">
                <a:solidFill>
                  <a:srgbClr val="d60093"/>
                </a:solidFill>
                <a:latin typeface="Comic Sans MS"/>
              </a:rPr>
              <a:t>　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from the “accelerator” based experi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96400" y="1844640"/>
            <a:ext cx="6890760" cy="14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Rare events ( nucleon decay, super nova etc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can happen “at any time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Natural neutrino beam is always the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Order of the events is also import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01360" y="5840280"/>
            <a:ext cx="51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6009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Triggered by the detector (system) itsel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40480" y="4579920"/>
            <a:ext cx="387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</a:rPr>
              <a:t>Dead-time needs be minim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</a:rPr>
              <a:t>   </a:t>
            </a:r>
            <a:r>
              <a:rPr b="1" lang="en-US" sz="1800" spc="-1" strike="noStrike">
                <a:solidFill>
                  <a:srgbClr val="009900"/>
                </a:solidFill>
                <a:latin typeface="Comic Sans MS"/>
              </a:rPr>
              <a:t>Dead-time should be recor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30080" y="6237360"/>
            <a:ext cx="64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6009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d60093"/>
                </a:solidFill>
                <a:latin typeface="Comic Sans MS"/>
              </a:rPr>
              <a:t>Condition of the detector is necessary to be recor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1440" y="62064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Large neutrino and nucleon decay det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66360" y="4255920"/>
            <a:ext cx="753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6009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Keep the detector running “</a:t>
            </a:r>
            <a:r>
              <a:rPr b="1" lang="en-US" sz="2000" spc="-1" strike="noStrike">
                <a:solidFill>
                  <a:srgbClr val="d60093"/>
                </a:solidFill>
                <a:latin typeface="Comic Sans MS"/>
              </a:rPr>
              <a:t>all the time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” without dead-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9720" y="5208480"/>
            <a:ext cx="790884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) Dead-time (down time) due to the equipment trouble or 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) Dead-time due to the limitation of the DAQ/onlin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10000" y="3213000"/>
            <a:ext cx="690012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n generated by decay o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ight be misidentified as the product o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tte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w energy events might be generated by spallation produc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49440" y="3284640"/>
            <a:ext cx="142920" cy="792000"/>
          </a:xfrm>
          <a:custGeom>
            <a:avLst/>
            <a:gdLst>
              <a:gd name="textAreaLeft" fmla="*/ 91440 w 142920"/>
              <a:gd name="textAreaRight" fmla="*/ 143280 w 14292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4292640"/>
            <a:ext cx="216000" cy="2305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6946560" y="3214800"/>
            <a:ext cx="1440000" cy="2519280"/>
            <a:chOff x="6946560" y="3214800"/>
            <a:chExt cx="1440000" cy="2519280"/>
          </a:xfrm>
        </p:grpSpPr>
        <p:sp>
          <p:nvSpPr>
            <p:cNvPr id="64" name=""/>
            <p:cNvSpPr/>
            <p:nvPr/>
          </p:nvSpPr>
          <p:spPr>
            <a:xfrm>
              <a:off x="6946920" y="3214800"/>
              <a:ext cx="1439640" cy="2519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946920" y="4681800"/>
              <a:ext cx="0" cy="10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6946560" y="5302440"/>
              <a:ext cx="122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093800" y="5302440"/>
              <a:ext cx="118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nd ev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825480" y="3646440"/>
            <a:ext cx="2305080" cy="1800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0360" y="96840"/>
            <a:ext cx="85474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Difficul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d60093"/>
                </a:solidFill>
                <a:latin typeface="Comic Sans MS"/>
              </a:rPr>
              <a:t>(Water Cherenkov detector and relatively extreme?? ca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2349360"/>
            <a:ext cx="799164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very low energy ev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1800" spc="-1" strike="noStrike">
                <a:solidFill>
                  <a:srgbClr val="0000cc"/>
                </a:solidFill>
                <a:latin typeface="Comic Sans MS"/>
              </a:rPr>
              <a:t>2.2 MeV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cc"/>
                </a:solidFill>
                <a:latin typeface="Comic Sans MS"/>
              </a:rPr>
              <a:t>(from neutron capture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generates only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~6 PMT hits in SK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7880" y="958680"/>
            <a:ext cx="7585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one want to detect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very low energy even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d60093"/>
                </a:solidFill>
                <a:latin typeface="Comic Sans MS"/>
              </a:rPr>
              <a:t>trigger rate gets extremely hig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This depends on the radio activity in the wa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d isolation from the surrounding rock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25480" y="3357720"/>
            <a:ext cx="2305080" cy="5760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25480" y="5157720"/>
            <a:ext cx="2305080" cy="5763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25480" y="364644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30560" y="364644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229320" y="3309120"/>
            <a:ext cx="3025440" cy="1947960"/>
            <a:chOff x="229320" y="3309120"/>
            <a:chExt cx="3025440" cy="1947960"/>
          </a:xfrm>
        </p:grpSpPr>
        <p:sp>
          <p:nvSpPr>
            <p:cNvPr id="77" name=""/>
            <p:cNvSpPr/>
            <p:nvPr/>
          </p:nvSpPr>
          <p:spPr>
            <a:xfrm flipV="1">
              <a:off x="538200" y="4870080"/>
              <a:ext cx="50328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29320" y="47973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1041480" y="3357360"/>
              <a:ext cx="1368360" cy="1512720"/>
            </a:xfrm>
            <a:prstGeom prst="line">
              <a:avLst/>
            </a:prstGeom>
            <a:ln w="3816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1041480" y="4797360"/>
              <a:ext cx="2089080" cy="72720"/>
            </a:xfrm>
            <a:prstGeom prst="line">
              <a:avLst/>
            </a:prstGeom>
            <a:ln w="3816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9996800">
              <a:off x="2552760" y="3306600"/>
              <a:ext cx="365040" cy="1584360"/>
            </a:xfrm>
            <a:prstGeom prst="ellipse">
              <a:avLst/>
            </a:prstGeom>
            <a:noFill/>
            <a:ln cap="rnd" w="7632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955800" y="3069720"/>
            <a:ext cx="2660040" cy="2588040"/>
            <a:chOff x="955800" y="3069720"/>
            <a:chExt cx="2660040" cy="2588040"/>
          </a:xfrm>
        </p:grpSpPr>
        <p:sp>
          <p:nvSpPr>
            <p:cNvPr id="83" name=""/>
            <p:cNvSpPr/>
            <p:nvPr/>
          </p:nvSpPr>
          <p:spPr>
            <a:xfrm flipH="1">
              <a:off x="2266920" y="3933720"/>
              <a:ext cx="21600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955800" y="3069720"/>
              <a:ext cx="2660040" cy="2588040"/>
              <a:chOff x="955800" y="3069720"/>
              <a:chExt cx="2660040" cy="2588040"/>
            </a:xfrm>
          </p:grpSpPr>
          <p:sp>
            <p:nvSpPr>
              <p:cNvPr id="85" name=""/>
              <p:cNvSpPr/>
              <p:nvPr/>
            </p:nvSpPr>
            <p:spPr>
              <a:xfrm>
                <a:off x="1980360" y="3933720"/>
                <a:ext cx="35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265480" y="4365360"/>
                <a:ext cx="217440" cy="1081080"/>
              </a:xfrm>
              <a:prstGeom prst="line">
                <a:avLst/>
              </a:prstGeom>
              <a:ln w="38160">
                <a:solidFill>
                  <a:srgbClr val="ffcc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969480" y="4365360"/>
                <a:ext cx="1297080" cy="936720"/>
              </a:xfrm>
              <a:prstGeom prst="line">
                <a:avLst/>
              </a:prstGeom>
              <a:ln w="38160">
                <a:solidFill>
                  <a:srgbClr val="ffcc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300600">
                <a:off x="968400" y="5231880"/>
                <a:ext cx="1513080" cy="360360"/>
              </a:xfrm>
              <a:prstGeom prst="ellipse">
                <a:avLst/>
              </a:prstGeom>
              <a:noFill/>
              <a:ln w="7632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>
                <a:off x="2482920" y="3069720"/>
                <a:ext cx="1079640" cy="86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276720" y="307008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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1" name=""/>
          <p:cNvSpPr/>
          <p:nvPr/>
        </p:nvSpPr>
        <p:spPr>
          <a:xfrm>
            <a:off x="3706920" y="5157720"/>
            <a:ext cx="511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922560" y="4726080"/>
            <a:ext cx="358920" cy="431640"/>
            <a:chOff x="3922560" y="4726080"/>
            <a:chExt cx="358920" cy="431640"/>
          </a:xfrm>
        </p:grpSpPr>
        <p:sp>
          <p:nvSpPr>
            <p:cNvPr id="93" name=""/>
            <p:cNvSpPr/>
            <p:nvPr/>
          </p:nvSpPr>
          <p:spPr>
            <a:xfrm>
              <a:off x="3922560" y="4941720"/>
              <a:ext cx="71280" cy="2160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993840" y="4726080"/>
              <a:ext cx="73080" cy="431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066920" y="4870440"/>
              <a:ext cx="71640" cy="28728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138560" y="5014800"/>
              <a:ext cx="71280" cy="1429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209840" y="5014800"/>
              <a:ext cx="71640" cy="1429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5218200" y="4941720"/>
            <a:ext cx="431280" cy="216000"/>
            <a:chOff x="5218200" y="4941720"/>
            <a:chExt cx="431280" cy="216000"/>
          </a:xfrm>
        </p:grpSpPr>
        <p:sp>
          <p:nvSpPr>
            <p:cNvPr id="99" name=""/>
            <p:cNvSpPr/>
            <p:nvPr/>
          </p:nvSpPr>
          <p:spPr>
            <a:xfrm>
              <a:off x="5218200" y="5014800"/>
              <a:ext cx="71280" cy="14292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578200" y="4941720"/>
              <a:ext cx="71280" cy="21600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730920" y="3286080"/>
            <a:ext cx="647640" cy="1871640"/>
            <a:chOff x="6730920" y="3286080"/>
            <a:chExt cx="647640" cy="1871640"/>
          </a:xfrm>
        </p:grpSpPr>
        <p:sp>
          <p:nvSpPr>
            <p:cNvPr id="102" name=""/>
            <p:cNvSpPr/>
            <p:nvPr/>
          </p:nvSpPr>
          <p:spPr>
            <a:xfrm>
              <a:off x="6802200" y="4078080"/>
              <a:ext cx="73080" cy="1079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75280" y="3790800"/>
              <a:ext cx="73080" cy="13669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7018920" y="3502080"/>
              <a:ext cx="71640" cy="1655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948360" y="3286080"/>
              <a:ext cx="71280" cy="1871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91280" y="3933720"/>
              <a:ext cx="71280" cy="122400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560" y="4294080"/>
              <a:ext cx="73080" cy="863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07280" y="4726080"/>
              <a:ext cx="71280" cy="431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235640" y="3862440"/>
              <a:ext cx="71640" cy="1295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30920" y="4367160"/>
              <a:ext cx="71280" cy="79056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922560" y="4681440"/>
            <a:ext cx="0" cy="10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22560" y="5302080"/>
            <a:ext cx="302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00680" y="530208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st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572320" y="52228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57800" y="5883120"/>
            <a:ext cx="782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ue to a trigger generated by a small activit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l high energ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vent” can be split into tw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453360" y="6093000"/>
            <a:ext cx="2232000" cy="649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360" y="109440"/>
            <a:ext cx="27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imple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9720" y="625320"/>
            <a:ext cx="74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Record all the hits from PMTs including dark no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8120" y="1058760"/>
            <a:ext cx="802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,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apply the “software” trig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400" spc="-1" strike="noStrike">
                <a:solidFill>
                  <a:srgbClr val="d60093"/>
                </a:solidFill>
                <a:latin typeface="Comic Sans MS"/>
              </a:rPr>
              <a:t>define an ev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83760" y="1500120"/>
            <a:ext cx="72097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Realistic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sume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0kHz dark rat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nd data size of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6bytes/PMT h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~840MB/se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for a detector with 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14k PMT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Typical dark rate of PMT in 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SK is 3~5kHz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3096000" y="3243960"/>
            <a:ext cx="358560" cy="18716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781080" y="3424320"/>
            <a:ext cx="358920" cy="287280"/>
            <a:chOff x="3781080" y="3424320"/>
            <a:chExt cx="358920" cy="287280"/>
          </a:xfrm>
        </p:grpSpPr>
        <p:sp>
          <p:nvSpPr>
            <p:cNvPr id="123" name=""/>
            <p:cNvSpPr/>
            <p:nvPr/>
          </p:nvSpPr>
          <p:spPr>
            <a:xfrm rot="5400000">
              <a:off x="3852360" y="349560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5400000">
              <a:off x="3890520" y="331452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3347640" y="3424320"/>
            <a:ext cx="358920" cy="287280"/>
            <a:chOff x="3347640" y="3424320"/>
            <a:chExt cx="358920" cy="287280"/>
          </a:xfrm>
        </p:grpSpPr>
        <p:sp>
          <p:nvSpPr>
            <p:cNvPr id="126" name=""/>
            <p:cNvSpPr/>
            <p:nvPr/>
          </p:nvSpPr>
          <p:spPr>
            <a:xfrm rot="5400000">
              <a:off x="3418920" y="349560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3457080" y="331452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2413080" y="3424320"/>
            <a:ext cx="358560" cy="287280"/>
            <a:chOff x="2413080" y="3424320"/>
            <a:chExt cx="358560" cy="287280"/>
          </a:xfrm>
        </p:grpSpPr>
        <p:sp>
          <p:nvSpPr>
            <p:cNvPr id="129" name=""/>
            <p:cNvSpPr/>
            <p:nvPr/>
          </p:nvSpPr>
          <p:spPr>
            <a:xfrm rot="5400000">
              <a:off x="2484360" y="3495600"/>
              <a:ext cx="216000" cy="215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2522520" y="3314880"/>
              <a:ext cx="139680" cy="35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2844720" y="356724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592000" y="3711600"/>
            <a:ext cx="1368360" cy="289080"/>
            <a:chOff x="2592000" y="3711600"/>
            <a:chExt cx="1368360" cy="289080"/>
          </a:xfrm>
        </p:grpSpPr>
        <p:sp>
          <p:nvSpPr>
            <p:cNvPr id="133" name=""/>
            <p:cNvSpPr/>
            <p:nvPr/>
          </p:nvSpPr>
          <p:spPr>
            <a:xfrm>
              <a:off x="3960360" y="37116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527280" y="37116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592000" y="37116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 rot="5400000">
            <a:off x="1006920" y="3243960"/>
            <a:ext cx="358560" cy="18716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692360" y="3424320"/>
            <a:ext cx="358560" cy="287280"/>
            <a:chOff x="1692360" y="3424320"/>
            <a:chExt cx="358560" cy="287280"/>
          </a:xfrm>
        </p:grpSpPr>
        <p:sp>
          <p:nvSpPr>
            <p:cNvPr id="138" name=""/>
            <p:cNvSpPr/>
            <p:nvPr/>
          </p:nvSpPr>
          <p:spPr>
            <a:xfrm rot="5400000">
              <a:off x="1763640" y="3495600"/>
              <a:ext cx="216000" cy="215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5400000">
              <a:off x="1801800" y="3314880"/>
              <a:ext cx="139680" cy="35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258560" y="3424320"/>
            <a:ext cx="358920" cy="287280"/>
            <a:chOff x="1258560" y="3424320"/>
            <a:chExt cx="358920" cy="287280"/>
          </a:xfrm>
        </p:grpSpPr>
        <p:sp>
          <p:nvSpPr>
            <p:cNvPr id="141" name=""/>
            <p:cNvSpPr/>
            <p:nvPr/>
          </p:nvSpPr>
          <p:spPr>
            <a:xfrm rot="5400000">
              <a:off x="1329840" y="349560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5400000">
              <a:off x="1368000" y="331452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324000" y="3424320"/>
            <a:ext cx="358560" cy="287280"/>
            <a:chOff x="324000" y="3424320"/>
            <a:chExt cx="358560" cy="287280"/>
          </a:xfrm>
        </p:grpSpPr>
        <p:sp>
          <p:nvSpPr>
            <p:cNvPr id="144" name=""/>
            <p:cNvSpPr/>
            <p:nvPr/>
          </p:nvSpPr>
          <p:spPr>
            <a:xfrm rot="5400000">
              <a:off x="395280" y="3495600"/>
              <a:ext cx="216000" cy="215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5400000">
              <a:off x="433440" y="3314880"/>
              <a:ext cx="139680" cy="35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755280" y="356724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02920" y="3711600"/>
            <a:ext cx="1368360" cy="289080"/>
            <a:chOff x="502920" y="3711600"/>
            <a:chExt cx="1368360" cy="289080"/>
          </a:xfrm>
        </p:grpSpPr>
        <p:sp>
          <p:nvSpPr>
            <p:cNvPr id="148" name=""/>
            <p:cNvSpPr/>
            <p:nvPr/>
          </p:nvSpPr>
          <p:spPr>
            <a:xfrm>
              <a:off x="1871280" y="37116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438200" y="37116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02920" y="37116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 flipH="1">
            <a:off x="107640" y="4653000"/>
            <a:ext cx="3384360" cy="144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4359240"/>
            <a:ext cx="0" cy="2952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402920" y="4359240"/>
            <a:ext cx="1800" cy="2952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5400000">
            <a:off x="7704360" y="3243960"/>
            <a:ext cx="358560" cy="18716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8389440" y="3424320"/>
            <a:ext cx="358920" cy="287280"/>
            <a:chOff x="8389440" y="3424320"/>
            <a:chExt cx="358920" cy="287280"/>
          </a:xfrm>
        </p:grpSpPr>
        <p:sp>
          <p:nvSpPr>
            <p:cNvPr id="156" name=""/>
            <p:cNvSpPr/>
            <p:nvPr/>
          </p:nvSpPr>
          <p:spPr>
            <a:xfrm rot="5400000">
              <a:off x="8460720" y="349560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5400000">
              <a:off x="8498880" y="331452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7956720" y="3424320"/>
            <a:ext cx="358560" cy="287280"/>
            <a:chOff x="7956720" y="3424320"/>
            <a:chExt cx="358560" cy="287280"/>
          </a:xfrm>
        </p:grpSpPr>
        <p:sp>
          <p:nvSpPr>
            <p:cNvPr id="159" name=""/>
            <p:cNvSpPr/>
            <p:nvPr/>
          </p:nvSpPr>
          <p:spPr>
            <a:xfrm rot="5400000">
              <a:off x="8028000" y="3495600"/>
              <a:ext cx="216000" cy="215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5400000">
              <a:off x="8066160" y="3314880"/>
              <a:ext cx="139680" cy="35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7021080" y="3424320"/>
            <a:ext cx="358920" cy="287280"/>
            <a:chOff x="7021080" y="3424320"/>
            <a:chExt cx="358920" cy="287280"/>
          </a:xfrm>
        </p:grpSpPr>
        <p:sp>
          <p:nvSpPr>
            <p:cNvPr id="162" name=""/>
            <p:cNvSpPr/>
            <p:nvPr/>
          </p:nvSpPr>
          <p:spPr>
            <a:xfrm rot="5400000">
              <a:off x="7092360" y="349560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5400000">
              <a:off x="7130520" y="331452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 flipH="1">
            <a:off x="7453080" y="356724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7200720" y="3711600"/>
            <a:ext cx="1368360" cy="289080"/>
            <a:chOff x="7200720" y="3711600"/>
            <a:chExt cx="1368360" cy="289080"/>
          </a:xfrm>
        </p:grpSpPr>
        <p:sp>
          <p:nvSpPr>
            <p:cNvPr id="166" name=""/>
            <p:cNvSpPr/>
            <p:nvPr/>
          </p:nvSpPr>
          <p:spPr>
            <a:xfrm>
              <a:off x="8569080" y="37116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136000" y="37116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200720" y="37116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rot="5400000">
            <a:off x="5615280" y="3243960"/>
            <a:ext cx="358560" cy="18716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6300360" y="3424320"/>
            <a:ext cx="358920" cy="287280"/>
            <a:chOff x="6300360" y="3424320"/>
            <a:chExt cx="358920" cy="287280"/>
          </a:xfrm>
        </p:grpSpPr>
        <p:sp>
          <p:nvSpPr>
            <p:cNvPr id="171" name=""/>
            <p:cNvSpPr/>
            <p:nvPr/>
          </p:nvSpPr>
          <p:spPr>
            <a:xfrm rot="5400000">
              <a:off x="6371640" y="349560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5400000">
              <a:off x="6409800" y="331452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866920" y="3424320"/>
            <a:ext cx="358920" cy="287280"/>
            <a:chOff x="5866920" y="3424320"/>
            <a:chExt cx="358920" cy="287280"/>
          </a:xfrm>
        </p:grpSpPr>
        <p:sp>
          <p:nvSpPr>
            <p:cNvPr id="174" name=""/>
            <p:cNvSpPr/>
            <p:nvPr/>
          </p:nvSpPr>
          <p:spPr>
            <a:xfrm rot="5400000">
              <a:off x="5938200" y="349560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5400000">
              <a:off x="5976360" y="331452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932000" y="3424320"/>
            <a:ext cx="358920" cy="287280"/>
            <a:chOff x="4932000" y="3424320"/>
            <a:chExt cx="358920" cy="287280"/>
          </a:xfrm>
        </p:grpSpPr>
        <p:sp>
          <p:nvSpPr>
            <p:cNvPr id="177" name=""/>
            <p:cNvSpPr/>
            <p:nvPr/>
          </p:nvSpPr>
          <p:spPr>
            <a:xfrm rot="5400000">
              <a:off x="5003280" y="349560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5400000">
              <a:off x="5041440" y="331452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 flipH="1">
            <a:off x="5364000" y="356724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111280" y="3711600"/>
            <a:ext cx="1368360" cy="289080"/>
            <a:chOff x="5111280" y="3711600"/>
            <a:chExt cx="1368360" cy="289080"/>
          </a:xfrm>
        </p:grpSpPr>
        <p:sp>
          <p:nvSpPr>
            <p:cNvPr id="181" name=""/>
            <p:cNvSpPr/>
            <p:nvPr/>
          </p:nvSpPr>
          <p:spPr>
            <a:xfrm>
              <a:off x="6479640" y="37116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46560" y="37116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111280" y="37116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 flipV="1">
            <a:off x="5580000" y="4653000"/>
            <a:ext cx="3456000" cy="144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885080" y="4359240"/>
            <a:ext cx="0" cy="2952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012000" y="4367160"/>
            <a:ext cx="0" cy="28728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4160" y="400068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343240" y="400068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862520" y="400068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950160" y="400068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278000" y="4799160"/>
            <a:ext cx="1727280" cy="3603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61440" y="479916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ou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27640" y="4799160"/>
            <a:ext cx="1727280" cy="3603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211080" y="479916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ou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1331640" y="5300280"/>
            <a:ext cx="7559640" cy="324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093080" y="5159520"/>
            <a:ext cx="0" cy="14436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143080" y="4654440"/>
            <a:ext cx="0" cy="15264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627280" y="5303880"/>
            <a:ext cx="0" cy="2160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932360" y="5303880"/>
            <a:ext cx="0" cy="2160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76440" y="5521320"/>
            <a:ext cx="2087640" cy="3589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486080" y="5521320"/>
            <a:ext cx="220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ts sorter + Mer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44880" y="5521320"/>
            <a:ext cx="2087640" cy="3589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62440" y="5521320"/>
            <a:ext cx="220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ts sorter + Mer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05000" y="6095880"/>
            <a:ext cx="30970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016080" y="6094440"/>
            <a:ext cx="0" cy="36036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3016080" y="6453360"/>
            <a:ext cx="360360" cy="144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376440" y="6238800"/>
            <a:ext cx="273528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32240" y="6238800"/>
            <a:ext cx="26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ligent trigge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111720" y="6453360"/>
            <a:ext cx="358920" cy="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469200" y="6093000"/>
            <a:ext cx="221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lin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nalysis &amp; stora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43080" y="5159520"/>
            <a:ext cx="0" cy="15228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093080" y="4654440"/>
            <a:ext cx="0" cy="14472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627280" y="5878440"/>
            <a:ext cx="0" cy="2160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32360" y="5878440"/>
            <a:ext cx="0" cy="2160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13760" y="2924280"/>
            <a:ext cx="73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ossible design ( Schematic diagram of data flow part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420000" y="4398840"/>
            <a:ext cx="267264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Eth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or dedicated data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79640" y="5132520"/>
            <a:ext cx="12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66"/>
                </a:solidFill>
                <a:latin typeface="Arial"/>
              </a:rPr>
              <a:t>Eth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1403280" y="5876640"/>
            <a:ext cx="289080" cy="43164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21320" y="6308640"/>
            <a:ext cx="2492640" cy="337320"/>
          </a:xfrm>
          <a:prstGeom prst="rect">
            <a:avLst/>
          </a:prstGeom>
          <a:noFill/>
          <a:ln w="19080">
            <a:solidFill>
              <a:srgbClr val="3399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used to be “event-builder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477120" y="5421240"/>
            <a:ext cx="255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Comic Sans MS"/>
              </a:rPr>
              <a:t>Sort PMT h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Comic Sans MS"/>
              </a:rPr>
              <a:t>  </a:t>
            </a:r>
            <a:r>
              <a:rPr b="1" lang="en-US" sz="1600" spc="-1" strike="noStrike">
                <a:solidFill>
                  <a:srgbClr val="009900"/>
                </a:solidFill>
                <a:latin typeface="Comic Sans MS"/>
              </a:rPr>
              <a:t>in the order of tim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6011640" y="5734080"/>
            <a:ext cx="36036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443640" y="5445000"/>
            <a:ext cx="2592360" cy="576360"/>
          </a:xfrm>
          <a:prstGeom prst="rect">
            <a:avLst/>
          </a:prstGeom>
          <a:noFill/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99440" y="101520"/>
            <a:ext cx="448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Data transfer via Eth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37760" y="4051440"/>
            <a:ext cx="76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Network is quite reliable but not perfect, as alw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971640" y="443880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ven TCP/IP might be a cause of probl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vice driver or network equipment might be broken or bug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me defects in equipment or software creates corrupt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94600" y="5373720"/>
            <a:ext cx="703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Careful design of the network is very import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332000" y="5759280"/>
            <a:ext cx="763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Traffic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cluding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typical packet (data block) siz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esti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Monitoring poin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where and how to tap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22480" y="585720"/>
            <a:ext cx="795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Network performanc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eavily depen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 the </a:t>
            </a:r>
            <a:r>
              <a:rPr b="1" lang="en-US" sz="2400" spc="-1" strike="noStrike">
                <a:solidFill>
                  <a:srgbClr val="009900"/>
                </a:solidFill>
                <a:latin typeface="Comic Sans MS"/>
              </a:rPr>
              <a:t>size of each data packe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the design of the </a:t>
            </a:r>
            <a:r>
              <a:rPr b="1" lang="en-US" sz="2400" spc="-1" strike="noStrike">
                <a:solidFill>
                  <a:srgbClr val="009900"/>
                </a:solidFill>
                <a:latin typeface="Comic Sans MS"/>
              </a:rPr>
              <a:t>network topolog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68360" y="5614920"/>
            <a:ext cx="43164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75200" y="1700280"/>
            <a:ext cx="842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The characteristic of the data flow of online/DAQ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</a:t>
            </a: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differ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rom the </a:t>
            </a:r>
            <a:r>
              <a:rPr b="0" lang="en-US" sz="2400" spc="-1" strike="noStrike">
                <a:solidFill>
                  <a:srgbClr val="d60093"/>
                </a:solidFill>
                <a:latin typeface="Comic Sans MS"/>
              </a:rPr>
              <a:t>usual client-server syste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29480" y="2468520"/>
            <a:ext cx="7101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ually,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the server sends large amount of data</a:t>
            </a:r>
            <a:r>
              <a:rPr b="0" lang="en-US" sz="2000" spc="-1" strike="noStrike">
                <a:solidFill>
                  <a:srgbClr val="ff66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ased on the request from a cli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he DAQ system, 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server “collects” dat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52680" y="3429000"/>
            <a:ext cx="834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network components are ( sometimes ) design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maximize their performance for the “usual” client-server model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7021440" y="5302080"/>
            <a:ext cx="194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401600" y="530208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nd-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021440" y="5302080"/>
            <a:ext cx="19432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275240" y="530208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dout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64160" y="101520"/>
            <a:ext cx="490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High availability (HA)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25640" y="692280"/>
            <a:ext cx="825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the online/DAQ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one of the computer will be down at any mom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8360" y="143208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reduce downtime of the detecto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cept of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the HA syste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eems to be useful and attrac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43400" y="2100240"/>
            <a:ext cx="8274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ways monitor the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status of the system (computer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ce one of the computer seems to have problem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stand-by machine starts work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Used for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web, database and disk server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ually, complete replica of the server is prepa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00120" y="3735360"/>
            <a:ext cx="829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 the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online/DAQ syste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it is quite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symmetri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nd thu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ly 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a few backups for each syste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will be suffici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4360" y="5300640"/>
            <a:ext cx="19432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718160" y="5300640"/>
            <a:ext cx="19429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0920" y="5011560"/>
            <a:ext cx="849636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935240" y="530064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dout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721600" y="530064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dout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421080" y="5011560"/>
            <a:ext cx="0" cy="2890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653080" y="5011560"/>
            <a:ext cx="0" cy="2890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6720" y="5011560"/>
            <a:ext cx="0" cy="2890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79280" y="5300640"/>
            <a:ext cx="201780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60280" y="530064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tus mon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116000" y="5011560"/>
            <a:ext cx="0" cy="2890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419640" y="5732640"/>
            <a:ext cx="1152360" cy="4316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4571640" y="5732640"/>
            <a:ext cx="1079640" cy="4316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635280" y="6164280"/>
            <a:ext cx="187164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071600" y="623736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rg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116000" y="5732640"/>
            <a:ext cx="0" cy="64764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50920" y="6380280"/>
            <a:ext cx="338436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4716360" y="5300640"/>
            <a:ext cx="1943280" cy="432000"/>
            <a:chOff x="4716360" y="5300640"/>
            <a:chExt cx="1943280" cy="432000"/>
          </a:xfrm>
        </p:grpSpPr>
        <p:sp>
          <p:nvSpPr>
            <p:cNvPr id="260" name=""/>
            <p:cNvSpPr/>
            <p:nvPr/>
          </p:nvSpPr>
          <p:spPr>
            <a:xfrm>
              <a:off x="4716360" y="5300640"/>
              <a:ext cx="1943280" cy="4320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997520" y="5300640"/>
              <a:ext cx="13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topped…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 flipV="1">
            <a:off x="4572000" y="5732280"/>
            <a:ext cx="3384720" cy="4316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8920" y="4437000"/>
            <a:ext cx="12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799160" y="4699080"/>
            <a:ext cx="399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Comic Sans MS"/>
              </a:rPr>
              <a:t>Dedicated line for the status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572880" y="587700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Data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826920" y="1830240"/>
            <a:ext cx="756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6009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Simple forma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embedded “easy to identify” tag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e always very usefu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90720" y="101520"/>
            <a:ext cx="65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Data format used in the onli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17600" y="620640"/>
            <a:ext cx="857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uld be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differ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rom the one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used in the offline syste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01840" y="5300640"/>
            <a:ext cx="845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so, it is helpfu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keep the “original” form of the (corrupted)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identifying the cause of a trouble </a:t>
            </a:r>
            <a:r>
              <a:rPr b="0" lang="en-US" sz="2400" spc="-1" strike="noStrike">
                <a:solidFill>
                  <a:srgbClr val="d60093"/>
                </a:solidFill>
                <a:latin typeface="Comic Sans MS"/>
              </a:rPr>
              <a:t>in the offline forma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99400" y="379872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352520" y="2525760"/>
            <a:ext cx="714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ou may need to capture and analyze data on the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investigate the probl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33840" y="3413160"/>
            <a:ext cx="802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 is not easy to </a:t>
            </a:r>
            <a:r>
              <a:rPr b="0" lang="en-US" sz="2000" spc="-1" strike="noStrike">
                <a:solidFill>
                  <a:srgbClr val="ff33cc"/>
                </a:solidFill>
                <a:latin typeface="Comic Sans MS"/>
              </a:rPr>
              <a:t>keep up with the updates of the offline softwar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337400" y="3773520"/>
            <a:ext cx="7497720" cy="14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ce you start the experimen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6600"/>
                </a:solidFill>
                <a:latin typeface="Comic Sans MS"/>
              </a:rPr>
              <a:t>people want to take data as much as possibl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t simple update of the libra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y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cause “unexpected” troubl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7760" y="1052640"/>
            <a:ext cx="80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Preparing a data format conver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is easier and safer in various reasons, sti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36440" y="2924280"/>
            <a:ext cx="273528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68360" y="2421000"/>
            <a:ext cx="2087640" cy="358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74560" y="1916280"/>
            <a:ext cx="1871640" cy="3603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1330560" y="656280"/>
            <a:ext cx="358560" cy="18716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03360" y="141444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00080" y="81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797560" y="692280"/>
            <a:ext cx="579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Monitoring the data qualit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the quick detection of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e important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92680" y="4005360"/>
            <a:ext cx="4806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Error detection - Possible check poi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) Electronics (front-end boa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) Readou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) Hits sorter + Mer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) Intelligent trigger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) Data quality mon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827080" y="1857240"/>
            <a:ext cx="198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Comic Sans MS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1980720" y="838080"/>
            <a:ext cx="358920" cy="287280"/>
            <a:chOff x="1980720" y="838080"/>
            <a:chExt cx="358920" cy="287280"/>
          </a:xfrm>
        </p:grpSpPr>
        <p:sp>
          <p:nvSpPr>
            <p:cNvPr id="285" name=""/>
            <p:cNvSpPr/>
            <p:nvPr/>
          </p:nvSpPr>
          <p:spPr>
            <a:xfrm rot="5400000">
              <a:off x="2052000" y="90936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5400000">
              <a:off x="2090160" y="72828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1547280" y="838080"/>
            <a:ext cx="358920" cy="287280"/>
            <a:chOff x="1547280" y="838080"/>
            <a:chExt cx="358920" cy="287280"/>
          </a:xfrm>
        </p:grpSpPr>
        <p:sp>
          <p:nvSpPr>
            <p:cNvPr id="288" name=""/>
            <p:cNvSpPr/>
            <p:nvPr/>
          </p:nvSpPr>
          <p:spPr>
            <a:xfrm rot="5400000">
              <a:off x="1618560" y="90936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5400000">
              <a:off x="1656720" y="72828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612360" y="838080"/>
            <a:ext cx="358920" cy="287280"/>
            <a:chOff x="612360" y="838080"/>
            <a:chExt cx="358920" cy="287280"/>
          </a:xfrm>
        </p:grpSpPr>
        <p:sp>
          <p:nvSpPr>
            <p:cNvPr id="291" name=""/>
            <p:cNvSpPr/>
            <p:nvPr/>
          </p:nvSpPr>
          <p:spPr>
            <a:xfrm rot="5400000">
              <a:off x="683640" y="90936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5400000">
              <a:off x="721800" y="72828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"/>
          <p:cNvSpPr/>
          <p:nvPr/>
        </p:nvSpPr>
        <p:spPr>
          <a:xfrm flipH="1">
            <a:off x="1044360" y="98100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792000" y="1125360"/>
            <a:ext cx="1368720" cy="289080"/>
            <a:chOff x="792000" y="1125360"/>
            <a:chExt cx="1368720" cy="289080"/>
          </a:xfrm>
        </p:grpSpPr>
        <p:sp>
          <p:nvSpPr>
            <p:cNvPr id="295" name=""/>
            <p:cNvSpPr/>
            <p:nvPr/>
          </p:nvSpPr>
          <p:spPr>
            <a:xfrm>
              <a:off x="2160720" y="112536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727280" y="112536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92000" y="112536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 flipH="1">
            <a:off x="1511280" y="1773360"/>
            <a:ext cx="14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17760" y="2422440"/>
            <a:ext cx="178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rter + Mer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82520" y="2924280"/>
            <a:ext cx="26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ligent trigge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96520" y="191772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ou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1511280" y="2278080"/>
            <a:ext cx="14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1511280" y="2782800"/>
            <a:ext cx="14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1511280" y="3352680"/>
            <a:ext cx="14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44360" y="3502080"/>
            <a:ext cx="2735280" cy="431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08000" y="35002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lin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2040" y="109440"/>
            <a:ext cx="658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In designing the data handl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53880" y="6021360"/>
            <a:ext cx="8431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At each checkpoint, characteristics of accumulated data are differ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Monitor data quality at each point will be effec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76720" y="2241720"/>
            <a:ext cx="574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cessary for 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the troubleshooti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may want to 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ith minor trou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708360" y="335772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understand the situa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t is necessary to keep “erroneous”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00080" y="81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2040" y="109440"/>
            <a:ext cx="658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In designing the data handl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387240" y="3213000"/>
            <a:ext cx="507420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There might be no PMT hits in a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for certain period of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36440" y="2924280"/>
            <a:ext cx="2735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68360" y="2421000"/>
            <a:ext cx="2087640" cy="35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74560" y="1916280"/>
            <a:ext cx="1871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rot="5400000">
            <a:off x="1332000" y="691920"/>
            <a:ext cx="358560" cy="18000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71320" y="141444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 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1980720" y="838080"/>
            <a:ext cx="358920" cy="287280"/>
            <a:chOff x="1980720" y="838080"/>
            <a:chExt cx="358920" cy="287280"/>
          </a:xfrm>
        </p:grpSpPr>
        <p:sp>
          <p:nvSpPr>
            <p:cNvPr id="320" name=""/>
            <p:cNvSpPr/>
            <p:nvPr/>
          </p:nvSpPr>
          <p:spPr>
            <a:xfrm rot="5400000">
              <a:off x="2052000" y="90936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5400000">
              <a:off x="2090160" y="72828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1547280" y="838080"/>
            <a:ext cx="358920" cy="287280"/>
            <a:chOff x="1547280" y="838080"/>
            <a:chExt cx="358920" cy="287280"/>
          </a:xfrm>
        </p:grpSpPr>
        <p:sp>
          <p:nvSpPr>
            <p:cNvPr id="323" name=""/>
            <p:cNvSpPr/>
            <p:nvPr/>
          </p:nvSpPr>
          <p:spPr>
            <a:xfrm rot="5400000">
              <a:off x="1618560" y="90936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5400000">
              <a:off x="1656720" y="72828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612360" y="838080"/>
            <a:ext cx="358920" cy="287280"/>
            <a:chOff x="612360" y="838080"/>
            <a:chExt cx="358920" cy="287280"/>
          </a:xfrm>
        </p:grpSpPr>
        <p:sp>
          <p:nvSpPr>
            <p:cNvPr id="326" name=""/>
            <p:cNvSpPr/>
            <p:nvPr/>
          </p:nvSpPr>
          <p:spPr>
            <a:xfrm rot="5400000">
              <a:off x="683640" y="90936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rot="5400000">
              <a:off x="721800" y="72828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 flipH="1">
            <a:off x="1044360" y="98100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792000" y="1125360"/>
            <a:ext cx="1368720" cy="289080"/>
            <a:chOff x="792000" y="1125360"/>
            <a:chExt cx="1368720" cy="289080"/>
          </a:xfrm>
        </p:grpSpPr>
        <p:sp>
          <p:nvSpPr>
            <p:cNvPr id="330" name=""/>
            <p:cNvSpPr/>
            <p:nvPr/>
          </p:nvSpPr>
          <p:spPr>
            <a:xfrm>
              <a:off x="2160720" y="112536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27280" y="112536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92000" y="112536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"/>
          <p:cNvSpPr/>
          <p:nvPr/>
        </p:nvSpPr>
        <p:spPr>
          <a:xfrm flipH="1">
            <a:off x="1511280" y="1773360"/>
            <a:ext cx="14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65120" y="2422440"/>
            <a:ext cx="20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t sorter + Mer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82520" y="2924280"/>
            <a:ext cx="26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ligent trigge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96520" y="191772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ou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1511280" y="2278080"/>
            <a:ext cx="14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1511280" y="2782800"/>
            <a:ext cx="14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1511280" y="3352680"/>
            <a:ext cx="14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44360" y="3502080"/>
            <a:ext cx="2735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08000" y="35020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lin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858040" y="765000"/>
            <a:ext cx="50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1</a:t>
            </a:r>
            <a:r>
              <a:rPr b="0" lang="en-US" sz="2400" spc="-1" strike="noStrike" baseline="30000">
                <a:solidFill>
                  <a:srgbClr val="0000cc"/>
                </a:solidFill>
                <a:latin typeface="Comic Sans MS"/>
              </a:rPr>
              <a:t>st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 check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ront-end electronics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96280" y="5357880"/>
            <a:ext cx="8788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cent FPGA can provide smart hardware level error det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preparing the error detection cod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n’t forget to 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keep both the error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and “erroneous data” themsel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916360" y="1617840"/>
            <a:ext cx="575928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e requirement for the electron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in the continuous data taking mo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184560" y="2421000"/>
            <a:ext cx="578016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The front-end board should be design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to generate periodic “heart beat” sig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492360" y="4091040"/>
            <a:ext cx="554544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 is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difficult to identif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ether the board without PMT h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as </a:t>
            </a:r>
            <a:r>
              <a:rPr b="0" lang="en-US" sz="2000" spc="-1" strike="noStrike">
                <a:solidFill>
                  <a:srgbClr val="ff0066"/>
                </a:solidFill>
                <a:latin typeface="Comic Sans MS"/>
              </a:rPr>
              <a:t>alive or no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n the later check poi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6:01:19Z</dcterms:created>
  <dc:creator>Yoshinari Hayato</dc:creator>
  <dc:description/>
  <dc:language>en-US</dc:language>
  <cp:lastModifiedBy>Yoshinari Hayato</cp:lastModifiedBy>
  <dcterms:modified xsi:type="dcterms:W3CDTF">2006-09-23T13:09:08Z</dcterms:modified>
  <cp:revision>32</cp:revision>
  <dc:subject/>
  <dc:title>Online and offline data handling  for large detectors (designed for non-accelerator experiments)</dc:title>
</cp:coreProperties>
</file>